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EDA5-549F-427E-AEBC-EC3134825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B87C-E35E-4983-A416-C703469E0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1CF5-76A7-4CB6-9D89-FD821EBA9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1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i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71326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3808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</a:t>
            </a:r>
            <a:r>
              <a:rPr b="0" lang="ja-JP" sz="1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12800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4T19:59:32Z</dcterms:modified>
  <cp:revision>29</cp:revision>
  <dc:subject/>
  <dc:title>lesson three</dc:title>
</cp:coreProperties>
</file>