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DD36-37EC-4708-A90A-9AE3472AE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7703-66B7-482A-8037-2083924B7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FE9C-A8D9-4EE6-BBBB-A95227562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151040" y="632340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55000" y="6323400"/>
            <a:ext cx="154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13880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152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95960" y="632340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110720" y="6323400"/>
            <a:ext cx="160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10000" y="6323400"/>
            <a:ext cx="159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13736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14132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13124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15752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120080" y="6323400"/>
            <a:ext cx="159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112880" y="6323400"/>
            <a:ext cx="159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04T23:44:54Z</dcterms:modified>
  <cp:revision>73</cp:revision>
  <dc:subject/>
  <dc:title>lesson three</dc:title>
</cp:coreProperties>
</file>